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293A-1299-4E59-8F4F-B9127243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8D69-AEE5-4F3E-89E5-1F108FEF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FD05-3ACC-438C-B6E0-F3621B11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3EBC-11AE-4050-A0D2-92BFF088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1D3F-59F0-4D5C-BDF0-1AD6FBCD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8812-A9CB-4D00-B673-279BF663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9AC4-9712-4B71-A42A-110A937C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034A-E413-4FDD-946B-FD8CE92C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DF8D-E2CD-4AB4-9DF9-3010DCEB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456-215C-461E-B4AD-1D587591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CC2F-6EBA-4EBA-8591-81C104B8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4997-0B0C-457A-AEFF-13A296BB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C3B7-4D8D-4855-AEEE-CFF441D98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涉江采芙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同心而离居，忧伤以终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5352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最后两句，除了表达黯然痛苦的心情，还能体会到两个彼此相爱的人的真挚情感，想爱却不能相守，让人有“忧伤以终老”的担忧，黯然的心情令人消魂，这种分离是不同与秦观的《鹊桥仙》“两情若是久长时，又岂在朝朝暮暮。”一个是永久的分离，一个是让人产生距离产生美。 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219640" y="1125360"/>
            <a:ext cx="3468600" cy="5231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62643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通过诵读，直接品味本文的思想感情。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通过分析，抓取意象——意境——思想情感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寻找文中关于文章主旨的表达情感的语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765000"/>
            <a:ext cx="165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7640" y="668160"/>
            <a:ext cx="13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小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413000"/>
            <a:ext cx="633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126828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于古文的思想感情可用三种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836640"/>
            <a:ext cx="76438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本文的表达手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借景抒情，白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3213000"/>
            <a:ext cx="5616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本文的突出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是意境高洁、清幽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是含蓄不尽，余味悠长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4000" y="620640"/>
            <a:ext cx="54003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华隶简体"/>
                <a:ea typeface="方正华隶简体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方正华隶简体"/>
                <a:ea typeface="方正华隶简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起首四句是平缓的叙述。“芙蓉”“兰泽”“芳草”等语，让人顿感抒情主人公形象的雅洁以及所表达的感情的纯洁、美好。“采之欲遗谁？所思在远道。”这两句自问自答，语气也是较为缓和的，不过“远道”一词已为下面的情绪转折透露出一些消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56360" y="2852640"/>
            <a:ext cx="2636640" cy="35146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69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最后两句也并没有顺接上面两句，而是从眼前想到此后的生涯，主人公更深的担忧是，如果两个相爱的人此生都不能相聚相守，那就只能是“忧伤以终老”了。黯然的情绪真是令人消魂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360" y="476280"/>
            <a:ext cx="86756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五六两句承“远道”而来，“还顾望旧乡，长路漫浩浩”将“远道”的意思说尽。“还顾”一词，动作性和画面感很强，读者似乎看到主人公孤单、忧愁、怅惘地立在船头，徒劳地往故乡的那个方向张望，他看到的是什么呢？是他不敢去仔细计算的迢迢路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!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漫浩浩”一词，读起来即给人以路途绵延无尽的感觉。故乡在哪儿？“所思”在哪儿？至此，抒情主人公感情痛苦到极点。可是，这两句并没有直接点明主人公的痛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这样，给读者留下了很大的想像空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具有含蓄不尽的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课后任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诵诗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预习《短歌行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zh-CN" sz="36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钟嵘《诗品》：惊心动魄，可谓几乎一字千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大家知道这个评价说的是什么吗</a:t>
            </a:r>
            <a:r>
              <a:rPr b="0" lang="zh-CN" sz="32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它指的是《古诗十九首》的语言已经达到炉火纯青的程度了。今天，我们将要学习其中的一首——《涉江采芙蓉》，体味一下这“一字千金”的语言魅力。</a:t>
            </a:r>
            <a:r>
              <a:rPr b="0" lang="en-US" sz="3200" spc="-1" strike="noStrike">
                <a:solidFill>
                  <a:srgbClr val="000000"/>
                </a:solidFill>
                <a:latin typeface="方正大标宋简体"/>
                <a:ea typeface="方正大标宋简体"/>
              </a:rPr>
              <a:t> 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2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文学常识介绍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——《古诗十九首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6121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《古诗十九首》是梁代萧统《文选》“杂诗”类的一个标题，包括汉代无名氏所作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首五言诗。清代沈德潜说：“古诗十九首，不必一人之辞，一时之作。大率逐臣弃妻，朋友阔绝，游子他乡，死生新故之感。或寓言，或显言，或反复言。初无奇辟之思，惊险之句，而西京古诗，皆在其下。”评价如此之高，而后世也多有仿者。西汉陆机曾逐首逐句地摹仿了其中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首，而东晋的陶渊明，南朝宋代的鲍照等，也都有学习“古诗”手法、风格的《拟古诗》。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朗读诗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涉江采芙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兰泽多芳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采之欲遗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所思在远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还顾望旧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长路漫浩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同心而离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忧伤以终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0000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40472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完这篇文章，你认为这首诗主要表达了什么样的思想感情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点：游子思乡之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771280" y="115560"/>
            <a:ext cx="424836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具体分析这篇文章，看文章如何表达出这种情感的？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涉江采芙蓉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兰泽多芳草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475308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意象是什么？对全诗意境的营造有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芙蓉即荷花，荷花出淤泥而不染，濯青莲而不妖。荷花给人以清幽、高洁之感，屈原作品中也视“荷”为香草，把香草比喻成高洁的品质。为文章奠定了高洁、清幽的意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435640" y="549360"/>
            <a:ext cx="3233520" cy="5792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643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采之欲遗谁，所思在远道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497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采摘花草送给远方的亲人，这种举动在古代诗歌常有出现。例如王维《相思》：红豆生南国，春来发几枝。愿君多采撷，此物最相思。还有灞桥折柳，现实生活中情人节送玫瑰，母亲节送康乃馨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508720" y="2997360"/>
            <a:ext cx="3240000" cy="3313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6920" y="314172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采摘这些花草的目的表达对亲人以及朋友的思念和祝福。但是这芙蓉并没有送出去，文章中作者自问自答可以看出来作者的情绪出现了变化，由欢欣转为失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还顾望旧乡，长路漫浩浩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79930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两句既有人物动作描写，也有心理刻画，你能用形象的语言描绘出来么？“还顾”具有怎样的表达作用的？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2565360"/>
            <a:ext cx="55432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“还顾”一词，动作感和画面感很强，可以清晰的表现主人公孤独、忧愁、愁怅的形象和心情。表达了主人公极度痛苦的心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是，并没有直接点明主人公的痛苦，这样就给读者留下了很大的想像空间，具有含蓄不尽的艺术效果。      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084720" y="2781360"/>
            <a:ext cx="2608560" cy="36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06:45:19Z</dcterms:created>
  <dc:creator>Lenovo User</dc:creator>
  <dc:description/>
  <dc:language>en-US</dc:language>
  <cp:lastModifiedBy>微软用户</cp:lastModifiedBy>
  <cp:lastPrinted>1899-12-30T00:00:00Z</cp:lastPrinted>
  <dcterms:modified xsi:type="dcterms:W3CDTF">2009-04-28T03:21:20Z</dcterms:modified>
  <cp:revision>9</cp:revision>
  <dc:subject/>
  <dc:title>涉江采芙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